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0B6D-7157-4305-8B82-D78E3B900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784E-5A8E-4CEE-AA70-285C2F989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286D-5A6E-4A5F-A756-2ADBE13D0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D29C-CDAF-46CE-832E-15DAEF185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DFD-D9B2-4817-86E8-C05D5DBB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938-FDE7-4B08-A596-7A38DFC6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6BE-E3E2-4140-8B33-6AEB3806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131-B0C5-46E8-ACA5-64B4C829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0A7-4B11-45E2-B657-F2591654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244-1A3B-4A70-8E00-5E418BF5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3B6-E107-484A-9C25-BF7967A2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749-C8A9-46C9-89E4-90AFDA62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D47-7589-4CC4-A0F2-7E555DD5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422-5382-41DA-A31C-C066476E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43A-1F10-4560-AA9F-D384003F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E0C-8009-4FF2-B907-7C4B1AFB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5701-4C93-4BFC-9688-38A55153A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2124000" y="1868400"/>
            <a:ext cx="312444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Gentleman Prefer Blondes, Ocean’s Eleven, Guy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1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3" descr="2"/>
          <p:cNvPicPr/>
          <p:nvPr/>
        </p:nvPicPr>
        <p:blipFill>
          <a:blip r:embed="rId2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5" descr="5"/>
          <p:cNvPicPr/>
          <p:nvPr/>
        </p:nvPicPr>
        <p:blipFill>
          <a:blip r:embed="rId3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7" descr="oaththp"/>
          <p:cNvPicPr/>
          <p:nvPr/>
        </p:nvPicPr>
        <p:blipFill>
          <a:blip r:embed="rId4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9" descr="celebthp"/>
          <p:cNvPicPr/>
          <p:nvPr/>
        </p:nvPicPr>
        <p:blipFill>
          <a:blip r:embed="rId5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1" descr="JohnFKennedy_FrankSinatra"/>
          <p:cNvPicPr/>
          <p:nvPr/>
        </p:nvPicPr>
        <p:blipFill>
          <a:blip r:embed="rId6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3" descr="grmykthp"/>
          <p:cNvPicPr/>
          <p:nvPr/>
        </p:nvPicPr>
        <p:blipFill>
          <a:blip r:embed="rId7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glennthp"/>
          <p:cNvPicPr/>
          <p:nvPr/>
        </p:nvPicPr>
        <p:blipFill>
          <a:blip r:embed="rId8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Mary Beverly</cp:lastModifiedBy>
  <dcterms:modified xsi:type="dcterms:W3CDTF">2015-03-13T13:31:37Z</dcterms:modified>
  <cp:revision>20</cp:revision>
  <dc:subject/>
  <dc:title>Profile</dc:title>
</cp:coreProperties>
</file>